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A2D-928C-46DA-9810-62AF5F0B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7BE-4570-4307-A0B3-52BA7C5D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6AFF6-277C-46EC-8C7A-AE124A1D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9A06C-F58A-4982-9699-C03F4A7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59EF9-55A5-4B01-99D2-14E71ED2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310FA-684F-4E24-8F53-D49B246A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7F677-242E-49E8-BB4E-AB5BF41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D5BA4-E840-496B-822F-95228D57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99E1E-312E-46D9-8933-B0BB49AA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0E1C7-ACE2-4B69-9D5C-B25C82EF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13B13-2A2A-45BF-90A2-3C902EA9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2B2-06C3-4C18-91FC-38C6A6BB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4A2-8842-41FF-80C3-267D61EA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9548-49A9-4594-8CB4-9ED54981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144-150B-4737-A199-1B14EEB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19BF-260B-4A4A-9E85-162F23E5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0931-3923-4EF6-97CE-E5C47FA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2F9C-E2F9-45FA-AC8E-2D858153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DC61-A349-4670-AC97-DC3A895E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886B-152C-4A49-A286-E467E08C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CD0-56D8-46C0-955D-F4652603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48A0-90F5-460C-B23C-E7898EA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D2FB-7C2F-4808-AB97-2C6C056F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C9EC-1AFA-48A6-8B5C-01B9C5E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BCCC-22B3-41A3-9145-959E7D37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9AF3-CBBB-43D2-8D76-79F7C7B9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32D5-FFE1-4A91-8912-EF5C9546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EC98-3A4A-4D0B-965A-5D145982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461F-9ADE-4451-B8BE-26D6C39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FEFB-0BF9-4C23-BE43-F1DCAEAE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AE24-744E-4302-8598-D3105805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252-8105-455C-BE63-1D937A4A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FF3F-9474-44C8-A9B2-A0C03F02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0244-FF7A-4B8A-9910-45214968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E51A-CB1C-425F-8647-9CBAD91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7008-3D68-4BB1-B1BC-CC37F5F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D79C-59E8-4D41-AFC5-2634243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93D7-005B-47CF-AC70-484C7B29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EF17-D88C-4570-ABA6-6896D94E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6DDA3-AFA7-4490-B473-8DF4DB83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005D-295E-4FB8-B64D-9EDF2CB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62C3-5F97-4DC9-AC58-C9010274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D5C-7538-44C3-BB22-068AF863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982E-8569-403A-BCEB-F039A0C6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AEB7-8F11-4780-B90D-17759177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6310-A6D3-430E-AD11-073FB15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53B4-B249-427D-979A-656145B4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4B85-347E-4EC6-8588-21BB70C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E592-BDF8-41E9-B67A-084C0B2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F0AA-0E5B-45C6-BE0E-E307183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C36C-C88C-4D97-9F5F-A9308C1C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E121-E509-488E-8DD3-CED70EF5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31B00-84F7-4673-87AE-616AF383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DC7-0336-43B7-9481-12CF7E5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4D45F-EFA8-4EA2-A97E-2CC257BB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77B17-BDE4-462E-8143-264976A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6459-3CB4-4EE6-A53E-F43DD774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A319-5404-4027-A130-E12FCA97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FA2BC-653E-4A77-A91D-B4FB16E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74C1-0D34-4228-A542-A835600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A5849-A199-47C7-AF53-4C6963A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799B-B658-45C5-BBCD-3765416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BA7B3-3A77-473C-ADAC-708A48C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0CF3-4DBE-4705-8494-0113182B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5DD-A50F-4BEB-BA01-394EA9E1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8F3B-1F76-4254-9DCF-163E3FCD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72CA1-0E33-4C24-AEDA-3ED0A01C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B2951-94F1-4D6F-B84E-02C70045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61301-C83C-4805-AFD3-62299AE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368F3-6615-4CAD-8735-4E94B87D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32BC1-D5ED-4D76-A0B6-CD22B9B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51BD-1068-4505-93E6-66CC453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A5B60-6729-44AB-98BD-FD70FC74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E2C2B-43FB-4118-B2A9-71003B9F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406E-A234-46B4-B309-9E41368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F46-027F-4443-A0BF-A8F94CB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BD865-FC39-46B2-BE27-5ED2104F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EC4B-4E11-48EB-8B12-6AC4A1D2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B9132-78F3-4363-86FD-40D11180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6C45F-61EC-40C9-B7E9-2933BE3D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EB28D-906D-4725-972B-6C3D25A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B66E-5980-4BC3-BD71-8D8E6EEE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5FECF-9145-43B1-85DD-7F2A0459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CD066-8953-4FBB-A632-CACDF85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70544-92F1-4DBF-8025-DF2B5D9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8E1B-4A36-47F8-B4A2-6D57969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CA0-1886-40C7-80D0-D510689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78325-4E4F-4CD8-8007-47F3CB6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48E53-1BFA-47F2-AD07-B4C0D58E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71067-E9C9-4A40-848A-537D9DD7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49E6-FB01-4900-B49A-40508268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7B0E4-11CE-4D9D-A3AE-D0CDB5D9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118D4-C29F-44B6-8CAB-E38BD7E0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8CE4D-382B-419B-B433-80B0F77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ED580-51F4-474B-92BE-450F6E03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9A68C-3660-40F0-894C-47E3B135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E4F2-4268-43C7-BB7F-FEB30456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28F-DDB2-4001-BD6C-D9734891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6AC11-E532-49B6-B396-6EAE1C4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B1F7-2CF3-4F25-BBD0-C567066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A2AF-511B-4C33-80ED-0DA7419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476D8-B3E1-4A8C-A9CE-6312E12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8D4BC-771B-4671-A8B5-A599887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B5242-160A-41F5-9C90-3C541A97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715E8-D5B6-40FA-BC53-F597D0A8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B8D01-FA8E-4BAD-919B-4800BDB9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0F678-20BA-4970-B280-3126852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70693-9E42-41E0-8FF8-1F128BFA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374F-4E0E-49E5-93BE-2599EF066E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DE0-ACDE-40BF-94B0-5EE034E1A7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6619-A31C-4060-8179-A5CA7DA84C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B7A-5E10-42AA-8BEE-F2971649FD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BEB8-C5D1-4192-8E5E-279B41EB58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A857-9BB0-452C-8D28-72EBCB354A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B837-2455-414F-83ED-254BDE6BC4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D7F1-9A6A-4153-9A6F-FE88A51E5C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0A78-7A5A-44D1-9D9B-C3FD124336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portal-slovo.ru/philology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3333600"/>
            <a:ext cx="8663040" cy="2749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3640" y="691920"/>
            <a:ext cx="84582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ые предложения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роки создания проекта: 2 недели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.Г.Бархударов Русский язык 9 класс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www.portal-slovo.ru/philolog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ишератина Екатерина, студентка 341 групп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4200" y="99972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Лиса Алиса была якобы хромая, кот Базилио притворялся слепым, хотя зрение у него было совсем как у кошки, но неопытный Буратино сразу поверил мошенникам и пожалел их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071360"/>
            <a:ext cx="8686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едложение как единица синтаксиса (и простое, и сложное) должно обладать такими признаками, как относительная смысловая законченность и интонационное единств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999720"/>
            <a:ext cx="8686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Буратино не смог решить предложенную Мальвиной задачу. Он ни разу не был в школе. – Буратино не смог решить предложенную Мальвиной задачу, так как  ни разу не был в школ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14200" y="428760"/>
            <a:ext cx="8686800" cy="62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Основополагающий вопрос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В чем красота сложных предложений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81160" y="324000"/>
            <a:ext cx="8697600" cy="1266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</a:rPr>
              <a:t>Какую роль играет изучение сложносочиненных предложений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697960" cy="1389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</a:rPr>
              <a:t>Какие бывают сложносочиненные предложения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</a:rPr>
              <a:t>Как отделяются друг от друга простые предложения, входящие в сложносочиненное предложение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1. Сложносочинённое предложение и знаки препинания в н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2. Сложносочиненное предложение и его ви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3-4. Виды   сложносочинённых   предложе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5. Использование   сложносочинённых   предложений   в тек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6. Контрольный   диктант по теме: «Сложносочинённые   предложения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7. Представление проектов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нтрольная рабо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укл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зентац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нгазе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16:50Z</dcterms:created>
  <dc:creator>Пользователь</dc:creator>
  <dc:description/>
  <dc:language>en-US</dc:language>
  <cp:lastModifiedBy>студент</cp:lastModifiedBy>
  <dcterms:modified xsi:type="dcterms:W3CDTF">2011-04-05T11:18:54Z</dcterms:modified>
  <cp:revision>13</cp:revision>
  <dc:subject/>
  <dc:title>Слайд 1</dc:title>
</cp:coreProperties>
</file>